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96C-FF29-40EC-98CF-92264CFF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AA2-748C-45DE-9A77-53124C3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9E4-9178-446A-802D-76360FD6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0D5-AE38-468D-ABE0-0B6E9532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0CA-51DB-452C-8C82-ABFA7139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28F-AEF4-4E32-AE3B-9FB5131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7EE-313A-4EA1-A06C-B831C1E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697-BCA6-4E6C-9940-CAAA399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7EC-F3A9-4C88-ABE7-DA5862AB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A7-B73F-4F38-A76A-ECFB2C0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C46-0656-4391-A5CA-063A434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33A-4D3E-4D68-94BC-1F82E01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3E165-52D9-4149-8EFF-5DC3A305E907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CC700-9DD4-4526-A11E-BC9952390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Science 10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ssign Alle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ova/sperm punnet squ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genotypes and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phenotypes and perce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nswer th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ssign Alle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 = dominant red colour all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ahoma"/>
                <a:ea typeface="Tahoma"/>
              </a:rPr>
              <a:t>r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 = recessive white colour all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2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(parental)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ed coloured flowers × Red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3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Rr  ×  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4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P ova/sperm punnett squ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90920" y="3200400"/>
          <a:ext cx="3809880" cy="13716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90"/>
                          </a:solidFill>
                          <a:latin typeface="Tahoma"/>
                          <a:ea typeface="Tahoma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traight Connector 5"/>
          <p:cNvSpPr/>
          <p:nvPr/>
        </p:nvSpPr>
        <p:spPr>
          <a:xfrm flipH="1">
            <a:off x="3884760" y="3201840"/>
            <a:ext cx="2880" cy="1371600"/>
          </a:xfrm>
          <a:prstGeom prst="line">
            <a:avLst/>
          </a:prstGeom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3124080" y="3657600"/>
            <a:ext cx="2667240" cy="1440"/>
          </a:xfrm>
          <a:prstGeom prst="line">
            <a:avLst/>
          </a:prstGeom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5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(Filial) genotypes and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1/4 RR : 2/4 Rr : 1/4 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6.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Show F</a:t>
            </a:r>
            <a:r>
              <a:rPr b="0" lang="en-AU" sz="3200" spc="-1" strike="noStrike" baseline="-25000">
                <a:solidFill>
                  <a:srgbClr val="000090"/>
                </a:solidFill>
                <a:latin typeface="Tahoma"/>
                <a:ea typeface="Tahoma"/>
              </a:rPr>
              <a:t>1</a:t>
            </a: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 phenotypes and perce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75% red coloured flower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25% white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  <a:ea typeface="Tahoma"/>
              </a:rPr>
              <a:t>The Seve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90"/>
              </a:buClr>
              <a:buFont typeface="Tahoma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90"/>
                </a:solidFill>
                <a:latin typeface="Tahoma"/>
                <a:ea typeface="Tahoma"/>
              </a:rPr>
              <a:t>Answer th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	</a:t>
            </a:r>
            <a:r>
              <a:rPr b="0" lang="en-AU" sz="2800" spc="-1" strike="noStrike">
                <a:solidFill>
                  <a:srgbClr val="000090"/>
                </a:solidFill>
                <a:latin typeface="Tahoma"/>
                <a:ea typeface="Tahoma"/>
              </a:rPr>
              <a:t>There will be 75% red coloured flowers and 25% white coloured fl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08:22Z</dcterms:created>
  <dc:creator>Clinton Hale</dc:creator>
  <dc:description/>
  <cp:keywords/>
  <dc:language>en-US</dc:language>
  <cp:lastModifiedBy>Clinton Hale</cp:lastModifiedBy>
  <dcterms:modified xsi:type="dcterms:W3CDTF">2010-04-28T09:13:32Z</dcterms:modified>
  <cp:revision>12</cp:revision>
  <dc:subject/>
  <dc:title>Science 10B</dc:title>
</cp:coreProperties>
</file>